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media/image14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3.png" ContentType="image/png"/>
  <Override PartName="/ppt/media/image9.jpeg" ContentType="image/jpeg"/>
  <Override PartName="/ppt/media/image11.jpeg" ContentType="image/jpeg"/>
  <Override PartName="/ppt/media/image1.jpeg" ContentType="image/jpe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notesMasterIdLst>
    <p:notesMasterId r:id="rId20"/>
  </p:notesMasterIdLst>
  <p:sldIdLst>
    <p:sldId id="256" r:id="rId21"/>
    <p:sldId id="257" r:id="rId22"/>
    <p:sldId id="258" r:id="rId23"/>
    <p:sldId id="259" r:id="rId24"/>
    <p:sldId id="260" r:id="rId25"/>
    <p:sldId id="261" r:id="rId26"/>
    <p:sldId id="262" r:id="rId27"/>
    <p:sldId id="263" r:id="rId28"/>
    <p:sldId id="264" r:id="rId29"/>
    <p:sldId id="265" r:id="rId30"/>
    <p:sldId id="266" r:id="rId31"/>
    <p:sldId id="267" r:id="rId32"/>
    <p:sldId id="268" r:id="rId33"/>
    <p:sldId id="269" r:id="rId34"/>
    <p:sldId id="270" r:id="rId35"/>
    <p:sldId id="271" r:id="rId36"/>
    <p:sldId id="272" r:id="rId37"/>
    <p:sldId id="273" r:id="rId38"/>
    <p:sldId id="274" r:id="rId39"/>
    <p:sldId id="275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notesMaster" Target="notesMasters/notesMaster1.xml"/><Relationship Id="rId21" Type="http://schemas.openxmlformats.org/officeDocument/2006/relationships/slide" Target="slides/slide1.xml"/><Relationship Id="rId22" Type="http://schemas.openxmlformats.org/officeDocument/2006/relationships/slide" Target="slides/slide2.xml"/><Relationship Id="rId23" Type="http://schemas.openxmlformats.org/officeDocument/2006/relationships/slide" Target="slides/slide3.xml"/><Relationship Id="rId24" Type="http://schemas.openxmlformats.org/officeDocument/2006/relationships/slide" Target="slides/slide4.xml"/><Relationship Id="rId25" Type="http://schemas.openxmlformats.org/officeDocument/2006/relationships/slide" Target="slides/slide5.xml"/><Relationship Id="rId26" Type="http://schemas.openxmlformats.org/officeDocument/2006/relationships/slide" Target="slides/slide6.xml"/><Relationship Id="rId27" Type="http://schemas.openxmlformats.org/officeDocument/2006/relationships/slide" Target="slides/slide7.xml"/><Relationship Id="rId28" Type="http://schemas.openxmlformats.org/officeDocument/2006/relationships/slide" Target="slides/slide8.xml"/><Relationship Id="rId29" Type="http://schemas.openxmlformats.org/officeDocument/2006/relationships/slide" Target="slides/slide9.xml"/><Relationship Id="rId30" Type="http://schemas.openxmlformats.org/officeDocument/2006/relationships/slide" Target="slides/slide10.xml"/><Relationship Id="rId31" Type="http://schemas.openxmlformats.org/officeDocument/2006/relationships/slide" Target="slides/slide11.xml"/><Relationship Id="rId32" Type="http://schemas.openxmlformats.org/officeDocument/2006/relationships/slide" Target="slides/slide12.xml"/><Relationship Id="rId33" Type="http://schemas.openxmlformats.org/officeDocument/2006/relationships/slide" Target="slides/slide13.xml"/><Relationship Id="rId34" Type="http://schemas.openxmlformats.org/officeDocument/2006/relationships/slide" Target="slides/slide14.xml"/><Relationship Id="rId35" Type="http://schemas.openxmlformats.org/officeDocument/2006/relationships/slide" Target="slides/slide15.xml"/><Relationship Id="rId36" Type="http://schemas.openxmlformats.org/officeDocument/2006/relationships/slide" Target="slides/slide16.xml"/><Relationship Id="rId37" Type="http://schemas.openxmlformats.org/officeDocument/2006/relationships/slide" Target="slides/slide17.xml"/><Relationship Id="rId38" Type="http://schemas.openxmlformats.org/officeDocument/2006/relationships/slide" Target="slides/slide18.xml"/><Relationship Id="rId39" Type="http://schemas.openxmlformats.org/officeDocument/2006/relationships/slide" Target="slides/slide19.xml"/><Relationship Id="rId40" Type="http://schemas.openxmlformats.org/officeDocument/2006/relationships/slide" Target="slides/slide20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 type="dt" idx="5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5"/>
          <p:cNvSpPr>
            <a:spLocks noGrp="1"/>
          </p:cNvSpPr>
          <p:nvPr>
            <p:ph type="ftr" idx="5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PlaceHolder 6"/>
          <p:cNvSpPr>
            <a:spLocks noGrp="1"/>
          </p:cNvSpPr>
          <p:nvPr>
            <p:ph type="sldNum" idx="5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9D318-AB27-4832-8C82-A536CE9BE6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7702D-6993-4318-BC6A-C0E89FEFAB3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FAAB0-C074-4A2C-9276-D59D942FA63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3A8D6-C922-428C-B067-C4841DDEF46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FA166-90C2-4609-A43E-3B62D56FC9F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7E0BE-87AF-4B9F-B791-B563F542317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B50A8-6C18-4AA0-8667-6849B0023AD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86BA2-1C1C-48A0-894E-B2BEF2CFFD8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5CB57-194B-4234-94D6-8C6F8C6BDA8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EBE01-BD75-41EB-91C3-573163BA1F0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9CD7B-7954-4C24-9C3E-FA0F6938997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BB576-F659-401C-B273-D0F675A46CC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C48C5-9015-45CB-8068-988C05B8098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29716-0287-4ACC-9A78-036297E4EC0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9232D-2870-4F70-BEC1-19C839CB6AD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4B05F-4851-42A1-BA78-1389609D8DA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27950-A6A7-42F3-B286-23B9F89F96E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432E8-297A-4829-95A4-055DF83B9D2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AEABD-3FB8-40EC-B638-9A636DB85F4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FD6E4-52DA-440C-9C41-3387ED7FC71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F68C8-E4C4-4FBC-8E4F-AE17B4338FE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EC572-0969-4247-86B0-260C8B771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68BE5-F5E4-4895-9FB3-425C6523B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D7F4095-1055-4004-B025-0C37CEF0E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947C9A9-2DFD-4D82-A049-44BE1C004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0DD0E39-CF13-40A3-A302-32045E04D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52E65EA-8FBD-4BD2-835E-CD79AA308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37AE370-9678-4179-863D-AE6155A6A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5C13235-8E80-404C-ADAC-03728B6B2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1656DA2-668E-4B20-9FD9-E5E51735B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EEF49FA-A854-4EC8-A982-62FAF277F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15B83EA-52B1-4CAF-8D9D-287435608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066D788-739A-4ADF-A3C9-3482FAE09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685CC-A456-4FCC-B876-387602F6A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1A8BDDA-42D0-4C86-B32D-252D3E836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5B114E9-89C8-4E4E-94E6-EB22250FF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D2C1B73-5437-4F29-B870-29762EFB5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B810B5A-92B1-4EC8-BD5A-7BBAA80BC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22C0DC7-6488-4035-AD27-EF48F9D2B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C710243-B038-4A42-B028-D6ABB7A8E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D74DDA0-C551-41D3-A9F3-0B9B64253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029B976-FA26-45DD-99C3-A1041127E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0C5849D-AA6F-4A09-8C3C-D7871A82E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92EDF1E-FACC-4C1E-A8DE-EF2AB7855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2C889-A833-4401-9BD2-E388B261D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277AE52-3042-4B38-8729-20A2A6A8E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9962BF3-6C59-425A-92CE-1EE0E7F20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C344F29-C434-43A0-A8D4-D4226D0F7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2DC37AE-8FD2-4F59-B709-4FFEB130E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AE6C79E-5960-4E8D-880F-4C492A8FD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91302C9-935E-4066-B2A5-BE7D66E24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777778F-ACF4-4C53-AF15-B04BB5F23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EA5BBDE-7321-4641-AEF1-CA5D3D8E2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FD629FD-65B8-4CAA-8E25-DAFD28204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41D1D3A-D082-4305-8DB5-F85BD71DA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235A63-926B-487E-AB46-E22C5E5F9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79C85B8-DEAA-477E-BD8B-C09282B21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2964762-CC43-4673-9A16-1410648FC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9380979-F304-4619-BEDC-A28BDCC9D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CE0978A-619F-4D24-9CC6-75FD513DA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B19FFE3-58D3-41EA-AC19-F671A7536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A0844D4-49F3-4199-B245-77FA060AD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3A9B70F-7F32-4A06-B928-07929933B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3A75834-9413-402B-A819-F698CE964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85718AF-1880-4B84-88D6-7CF4F8E5C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02C0A72-329B-40CF-A994-A2CF67CAD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295B3B-6D86-4E04-9CE6-B67F62AD0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4918DB8-1495-42CD-878A-9F3F6CA55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84EE60A-4A33-47CD-B868-EAEDDA2F3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0A04B5C-10DC-4405-845B-5DB8DFD0B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6937D4F-0EC4-4D71-A45B-38D5D041E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18FB28B-8194-4145-8ED8-C97F35454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22D1277-6113-4B13-8422-1A0B9AD59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14B1183-9539-4C51-9FC8-AE958F6C7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D820D75-B12F-4DDD-8526-9509E6643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451C7B8-149E-4589-A3C7-319D3A621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C51EB4F-5A81-47B4-875D-138B645AA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E096D7-B295-43B4-AC38-33B6F6339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68DD94E-A556-478B-BF38-3DADFCDAF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56EDEDF-AA23-404D-ACCE-0DAC3A348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EBDF1CC-A8F0-4B99-BD36-8FC62F846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FFCADB1-047A-471D-96F4-6359DF67E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1BBE2A4-6EB6-464E-A157-97F3B670C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15C1283-1B8E-4D51-8746-1D7EC5DAD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2EB887B-5312-4E23-AA69-8849FAD8A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75DE4BD8-3966-4F64-84B2-559D46111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372B68CB-E8C8-4DB6-A1F5-0D4B73384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755611CB-B124-4B0D-BF10-02C57B0BD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6F4687-C566-4723-9D9F-3FAC1199F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2450B6DB-AE4E-42E5-9927-1246CDC36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C489F417-C9E8-480F-A4BE-C3C5E9B7D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91C8C370-419E-424D-8719-0FC4C89C7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AE596E20-0A2A-4D4D-ADE3-1BD64024B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E3A2377E-58F7-4F70-9909-F12368EB7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26652F8D-E66A-44AD-AE4D-9675F2AAD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C69C2AF5-77C1-4EEA-83DC-E1715862D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1A0FCD11-01AE-4EA9-9C8E-ABD7F2F26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5DF8C444-4B95-4ABB-9357-E9FDB97C2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5AA6F7BB-5A6B-40A1-93D9-69E89C0DC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5582AA-7D5A-4A22-81FE-C6C59349A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C392CE26-F680-45D6-852E-200369173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306956BA-990A-43B4-9EE4-EA0B15B2B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18C4015D-AD95-4021-BB96-F86F7059E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50DB6B64-C215-48A9-9F2C-77823D1C0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90B1FB6D-AA28-40BE-84D7-36C3B6FC1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8C9BD266-0527-40C5-AD20-CD8613F78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96CEDA53-6FEE-4463-B949-3DFB9401B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B358F832-2C9F-48FB-8440-65F435F49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C3F6E881-CF59-4D4F-B7D4-017B75CB7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56D9C839-94FA-4F37-83A9-ADDD9CCD7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2334BD-5FD0-407F-8259-861C15A11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0178CFED-08EB-4210-B8FB-69B9E44E7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816E000D-80A8-4439-8F6C-6ACEA0AEC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A0EFAB2C-C345-4EB4-BE36-A4530A32F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D68EF273-F21A-4525-A950-CE269C1D0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A0740818-0FFE-4529-B04A-4D0A85261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87CC3814-3948-4336-9321-BC893B9D1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7FDBC133-81FD-489B-9232-360194BC7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3FA97A54-20B7-4A2A-8A5A-E8E21AB0D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6687801E-1F21-4733-99B1-4CC9037FF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DB4A2824-2254-417A-8501-18C32D923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A8C6CC-44AA-4316-8663-3C339A796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C375FCA8-2C43-4592-8B4C-D00E67077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2258C2D2-6196-4215-816E-20A5543D7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471085E7-D90C-47FE-9689-AED1038ED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4B088EA5-5D7A-4AE3-82C3-CBEAD3931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4B3DF751-1083-41B8-B883-C26F09E83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F3109D35-FC55-460B-915B-252869734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8CFACB1F-2EAA-412C-9120-EB34B3CEA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B2E1FE9F-9D11-442D-B3E8-375D73683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F50671F4-A43D-4DBD-BDE0-866383D68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688D42D0-0935-4D28-ACF9-9E8A59D24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9E903-83B4-4540-94FB-4D965BCE7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F24F7B-AA0B-49CE-8081-888BF0089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941707E7-812D-4DE6-A9CA-9FEBAD9ED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D40CCD65-2883-46AB-84E7-64796BAAE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CC3A16D0-669E-4FCD-AA24-A47E86BB5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4454889C-A2ED-47DE-8C1C-F77D2DB62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147B9C22-7ECC-4B4C-86DC-A2BCFC518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4E4F701-2253-4C79-B0B9-7783F2FBE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1270179-58A7-4222-99B4-0984E894A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58175EA-0734-49B6-9CEA-35E87FF3B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165B432-FC85-47B2-9E81-DC20BB62D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5D9C992-99DC-4227-AD46-A7B17D968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07B2B0-6350-47DA-AA30-8E66AE26E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E2E577F-4043-44FF-84C8-E71B931C5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E0807B8-D7ED-42BE-8BF1-8E72A3601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E0CCA4C-3818-4EC8-BC5C-F3CCFCC07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D5C3EF7-DD84-4D5B-9192-99D5A7B1F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45972E5-7647-43EB-9FEB-9D59FB237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F6EC15B-EB7A-4B75-B176-3CB89EB54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10BA764-5CE0-43D9-A72D-49FD1B46D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A169FD-6B04-466A-8C74-58BC46201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2AB1AA-170F-4377-AFF5-A70359CAC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459044-BD8B-4AC7-9589-64614476D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81618D-100D-4B5B-8630-23190A1EE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8F08461-E22C-49E7-A040-110F939EB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9D5F30-5BE5-4EF1-B557-CC38113B6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CC61CD-5A97-4FAB-9C9B-94C3F62E4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B23EB65-C150-45AF-A35D-B7AE57E68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58918-59CC-49C7-988B-478C233B5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0102155-297E-4CED-971F-52248F36D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D994E59-3C9C-4B95-9DCF-3E9B3F095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8C02BE4-3D10-4989-9E07-CD9FB2F0B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426DBE9-C042-4EE5-88FA-7E4B2BE10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5E0DD5B-6393-4D56-89A6-841B8A156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D8F3F87-6670-4375-9889-6DF5DB1AA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DD42C51-88DA-4CD7-BFD3-81E1FC2F5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4D28625-DB2C-4904-9A78-7A8CB0C3C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A317650-0C74-454D-8E10-DC2A2D303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C4731C3-6011-4468-A08A-E3E20EAE7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2FADF-DE81-4BEF-9A99-CD455BC84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5129EA3-9CD4-4824-B144-D26FD99AE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BDB29ED-9F01-4D13-AD33-B12D96837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CC3F74E-3555-402B-9F0C-97B9055E5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2B285BC-D468-4AE6-ADFA-E078C28D0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6538856-C044-4103-96CF-31EE2488D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65DA833-166F-4B30-8FF2-839EEBAA4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7722D2F-9FA9-4906-BB90-6381034D1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543DE29-A7A2-4193-919F-016C10446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687E5A9-DA47-4A8C-9071-A4BD7C141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54F48F0-259D-4A66-9648-5E36C4958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0D0D5-C6DA-472A-BDBB-C429BA326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F91EB06-8902-4E18-ADCB-7F14788C0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1AAA352-35D1-4F73-92C4-687F7BDAC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778A48B-D7FF-4204-8ACF-0793F4EA4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8333E04-D9AE-4B5A-B76D-9F27EAD27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1FEBDD5-E82F-458E-9B07-8B7E8C330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C730DD5-07A9-4FEA-B9B1-86F336966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0F2C3D3-8E34-41F6-9775-8FDBD4D4D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634299E-227C-4F1C-9DDE-8EFF30CC3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0A59250-38CA-4B65-A3E9-167EAFD39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B2EE715-36C5-498F-AABE-87824F8D3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624B0-8EEA-4D6D-97EF-2E7F782C2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43EFFB7-CC91-4C7E-AB2B-E47F9574E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0BB9910-4D38-4E73-840B-A508508A5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3C3FC37-49FE-4482-920D-5C55B7E3A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A7C3FFB-A32F-4732-B0C1-07E1709BF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650E251-9E24-4446-A9EE-FB40C0FA5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7B793C9-033C-4E31-8AB2-A30F75168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C423B5E-322B-4A14-9B18-B50C265D0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F590A9C-042A-4637-84EE-10603BFF7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7E214BA-45E9-4B13-A314-44A50F908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452CB3F-DC09-41FA-A846-37018ABC4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56287-0C54-498E-BC33-069880312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9751FA1-AF19-4A17-A7E5-B53DA7CE8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C8E4EC3-7494-49BD-9476-37154BB6E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8019A7A-1598-4C4B-9E9D-F813EF743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A7293ED-2917-4889-ABD1-4DACD5D54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5069B72-F571-4C46-9D50-7EAE06778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4DF134B-8311-42C5-8B4C-312BAF5C8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A8C9446-CED4-46B6-85AB-FD314482C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095DC43-8EF7-4B5B-B322-424AE7F68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64F1C75-C4D8-4F19-BEAF-7FD27B08D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979A4D2-CB35-4177-B11A-0A45CEE20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6ECF1-0EE9-44B7-A803-91CA7C3F1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A3BAE07-919F-4D38-87A7-EBB1CEDEB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A539E37-F620-41BF-AEA9-B108CA1A7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65BA40F-7CFA-4859-8DEE-7B79007E2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4838772-BC57-41BB-8305-63A2B9ED0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0AACD40-0281-4F07-A283-449ED9870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9ACC145-D202-4021-8179-E597351BD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0E38108-F468-4755-8BA6-EC4D713E7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9F57B44-33F8-49BA-85B8-899F2BFB6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B0CDD61-40BF-46A2-A7D6-8BA4977BE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731F8F7-CAF3-4FB1-AD54-B2C518CBD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6D172-2BFC-427B-9728-212C1BCB6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E378CF1-1C83-49FB-875E-99EC4E37F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DBCCAB4-18A6-4BAF-9375-6371A955D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07AD9C4-0FEC-49C9-8EAD-50C82897C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2CD1C96-4ECE-427C-8DDB-EAF57B8DE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7B017C0-0CCD-44F4-AAC8-737339E8F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D19E1E8-3239-4211-AA86-674545CD2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559259E-0B17-4B3F-8888-C9FAB457B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1D90294-F974-433B-AC2F-966304993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A46B30C-FB79-4DCE-9D9B-9A3905175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2A4CD52-E91B-4A82-AC08-F0336089B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78ACD-2918-48B5-916B-2C56CD4942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dt" idx="28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sldNum" idx="29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2A823-DFC5-4929-AF34-1FB029C0B96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3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444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45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6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9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50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52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 type="ftr" idx="30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dt" idx="3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sldNum" idx="3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F62C2-4C3E-4D3E-8C49-A8E5CB55DBD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3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494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95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00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1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02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 type="ftr" idx="3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dt" idx="34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sldNum" idx="35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CBC72-0FBA-4D98-AC3E-A0D48CAF610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3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44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45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6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7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8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9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50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1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52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 type="ftr" idx="36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dt" idx="3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 type="sldNum" idx="38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EB51F-D4F0-433D-83EC-F22CFB7CA4D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3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94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95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00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1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02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 type="ftr" idx="39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dt" idx="40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 type="sldNum" idx="41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D48A6-7C14-4A68-A03C-4E8C8DA9548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3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644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645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50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1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52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 type="ftr" idx="42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dt" idx="43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 type="sldNum" idx="44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1EC9A-F574-486A-BFDA-B5DD2EE8117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3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694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695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00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1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02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45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dt" idx="46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 type="sldNum" idx="47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0F2A8-963D-4214-8108-05CBE2212C5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3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744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745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6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7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8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9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50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1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52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 type="ftr" idx="48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dt" idx="49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 type="sldNum" idx="50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E9E18-EDB4-4B8F-BFA8-F875FCE873D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3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794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795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00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1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02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 type="ftr" idx="51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1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842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843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48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9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 type="dt" idx="52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 type="ftr" idx="53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4" name="PlaceHolder 5"/>
          <p:cNvSpPr>
            <a:spLocks noGrp="1"/>
          </p:cNvSpPr>
          <p:nvPr>
            <p:ph type="sldNum" idx="54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ADD65-D674-4A07-B5FA-8A4836865FD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Num" idx="5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59F3D-9DAE-49E5-A8F6-3ECD2C802D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44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5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0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2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6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ldNum" idx="8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9C30C-05AB-4839-B61E-A319EA2D8D1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94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95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0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9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dt" idx="10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ldNum" idx="11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54DE5-7572-4E6C-98D1-D070A35CC3B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44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45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50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2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2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dt" idx="13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ldNum" idx="14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0B42C-260B-4F79-A55D-5755FACDA9E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94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95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00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2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 type="ftr" idx="15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dt" idx="16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ldNum" idx="17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D8315-F40E-4ED3-8DF0-346534AC004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3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244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245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50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2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 type="ftr" idx="18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dt" idx="19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ldNum" idx="20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7E551-284C-47DB-B33C-696CE7F82C2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3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294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295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00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2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 type="ftr" idx="21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dt" idx="22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ldNum" idx="23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F8E49-CE1A-4328-BB2F-4417D8A26CF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3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44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345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6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0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2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 type="ftr" idx="24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dt" idx="25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sldNum" idx="26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B24D8-0950-4BC9-858D-A91A3869AFA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3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94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395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00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2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ftr" idx="27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257800" y="838080"/>
            <a:ext cx="3657600" cy="274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dfd293"/>
                </a:solidFill>
                <a:latin typeface="Arial"/>
              </a:rPr>
              <a:t>Zoom-In Inquiry</a:t>
            </a:r>
            <a:endParaRPr b="0" lang="en-US" sz="5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 type="subTitle"/>
          </p:nvPr>
        </p:nvSpPr>
        <p:spPr>
          <a:xfrm>
            <a:off x="762120" y="4267080"/>
            <a:ext cx="769608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xamine primary source clues carefully.  Determine what you see and what questions you might ask to “get the big picture”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0" name="Picture 4" descr="microscope"/>
          <p:cNvPicPr/>
          <p:nvPr/>
        </p:nvPicPr>
        <p:blipFill>
          <a:blip r:embed="rId1"/>
          <a:stretch/>
        </p:blipFill>
        <p:spPr>
          <a:xfrm>
            <a:off x="380880" y="304920"/>
            <a:ext cx="4572000" cy="369864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9" name=""/>
          <p:cNvGraphicFramePr/>
          <p:nvPr/>
        </p:nvGraphicFramePr>
        <p:xfrm>
          <a:off x="380880" y="1447920"/>
          <a:ext cx="8229600" cy="45259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508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laim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upport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estion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0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20" name="Line 20"/>
          <p:cNvSpPr/>
          <p:nvPr/>
        </p:nvSpPr>
        <p:spPr>
          <a:xfrm>
            <a:off x="914400" y="2438280"/>
            <a:ext cx="15238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1" name="Line 21"/>
          <p:cNvSpPr/>
          <p:nvPr/>
        </p:nvSpPr>
        <p:spPr>
          <a:xfrm flipV="1">
            <a:off x="4419720" y="2286000"/>
            <a:ext cx="0" cy="5335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2" name="Text Box 22"/>
          <p:cNvSpPr/>
          <p:nvPr/>
        </p:nvSpPr>
        <p:spPr>
          <a:xfrm>
            <a:off x="7240320" y="220968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3" name="Text Box 23"/>
          <p:cNvSpPr/>
          <p:nvPr/>
        </p:nvSpPr>
        <p:spPr>
          <a:xfrm>
            <a:off x="533520" y="228600"/>
            <a:ext cx="838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do we know about the relationship between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umans and natur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4" name=""/>
          <p:cNvGraphicFramePr/>
          <p:nvPr/>
        </p:nvGraphicFramePr>
        <p:xfrm>
          <a:off x="380880" y="1447920"/>
          <a:ext cx="8229600" cy="45259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508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laim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upport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nection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0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25" name="Line 20"/>
          <p:cNvSpPr/>
          <p:nvPr/>
        </p:nvSpPr>
        <p:spPr>
          <a:xfrm>
            <a:off x="914400" y="2438280"/>
            <a:ext cx="15238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Line 21"/>
          <p:cNvSpPr/>
          <p:nvPr/>
        </p:nvSpPr>
        <p:spPr>
          <a:xfrm flipV="1">
            <a:off x="4419720" y="2286000"/>
            <a:ext cx="0" cy="5335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7" name="Text Box 23"/>
          <p:cNvSpPr/>
          <p:nvPr/>
        </p:nvSpPr>
        <p:spPr>
          <a:xfrm>
            <a:off x="533520" y="228600"/>
            <a:ext cx="838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do we know about the relationship between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umans and natur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8" name="Oval 24"/>
          <p:cNvSpPr/>
          <p:nvPr/>
        </p:nvSpPr>
        <p:spPr>
          <a:xfrm>
            <a:off x="6934320" y="2286000"/>
            <a:ext cx="457200" cy="3808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9" name="Oval 25"/>
          <p:cNvSpPr/>
          <p:nvPr/>
        </p:nvSpPr>
        <p:spPr>
          <a:xfrm>
            <a:off x="7162920" y="2286000"/>
            <a:ext cx="457200" cy="3808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Rectangle 2"/>
          <p:cNvSpPr/>
          <p:nvPr/>
        </p:nvSpPr>
        <p:spPr>
          <a:xfrm>
            <a:off x="304920" y="304920"/>
            <a:ext cx="8534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fd293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dfd293"/>
                </a:solidFill>
                <a:latin typeface="Arial"/>
              </a:rPr>
              <a:t>Examine these images to determine how they help us understand the relationship between humans and natu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1" name="Picture 3" descr="Image, Source: b&amp;w film copy neg. of left half stereo"/>
          <p:cNvPicPr/>
          <p:nvPr/>
        </p:nvPicPr>
        <p:blipFill>
          <a:blip r:embed="rId1"/>
          <a:stretch/>
        </p:blipFill>
        <p:spPr>
          <a:xfrm>
            <a:off x="762120" y="3567240"/>
            <a:ext cx="1868400" cy="2286000"/>
          </a:xfrm>
          <a:prstGeom prst="rect">
            <a:avLst/>
          </a:prstGeom>
          <a:ln w="0">
            <a:noFill/>
          </a:ln>
        </p:spPr>
      </p:pic>
      <p:sp>
        <p:nvSpPr>
          <p:cNvPr id="932" name="Rectangle 4"/>
          <p:cNvSpPr/>
          <p:nvPr/>
        </p:nvSpPr>
        <p:spPr>
          <a:xfrm>
            <a:off x="762120" y="5852520"/>
            <a:ext cx="17524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alveston disaster, I'm glad Ise liv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brary of Congress Prints and Photographs Division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3" name="Rectangle 5"/>
          <p:cNvSpPr/>
          <p:nvPr/>
        </p:nvSpPr>
        <p:spPr>
          <a:xfrm>
            <a:off x="3429000" y="6035040"/>
            <a:ext cx="2408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urvivors of the earthquake, Messina, Sicily, Ital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brary of Congres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ints and Photographs Division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4" name="Picture 6" descr="Image, Source: b&amp;w film copy neg."/>
          <p:cNvPicPr/>
          <p:nvPr/>
        </p:nvPicPr>
        <p:blipFill>
          <a:blip r:embed="rId2"/>
          <a:srcRect l="0" t="0" r="48751" b="0"/>
          <a:stretch/>
        </p:blipFill>
        <p:spPr>
          <a:xfrm>
            <a:off x="6172200" y="3124080"/>
            <a:ext cx="2658960" cy="2667240"/>
          </a:xfrm>
          <a:prstGeom prst="rect">
            <a:avLst/>
          </a:prstGeom>
          <a:ln w="0">
            <a:noFill/>
          </a:ln>
        </p:spPr>
      </p:pic>
      <p:sp>
        <p:nvSpPr>
          <p:cNvPr id="935" name="Rectangle 7"/>
          <p:cNvSpPr/>
          <p:nvPr/>
        </p:nvSpPr>
        <p:spPr>
          <a:xfrm>
            <a:off x="6324480" y="2285280"/>
            <a:ext cx="2438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nder the descending fury o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t. Pelee, Martiniqu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brary of Congres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ints and Photographs Division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6" name="Picture 8" descr="Image, Source: intermediary roll film"/>
          <p:cNvPicPr/>
          <p:nvPr/>
        </p:nvPicPr>
        <p:blipFill>
          <a:blip r:embed="rId3"/>
          <a:stretch/>
        </p:blipFill>
        <p:spPr>
          <a:xfrm>
            <a:off x="4114800" y="1828800"/>
            <a:ext cx="1538280" cy="1981080"/>
          </a:xfrm>
          <a:prstGeom prst="rect">
            <a:avLst/>
          </a:prstGeom>
          <a:ln w="0">
            <a:noFill/>
          </a:ln>
        </p:spPr>
      </p:pic>
      <p:sp>
        <p:nvSpPr>
          <p:cNvPr id="937" name="Rectangle 9"/>
          <p:cNvSpPr/>
          <p:nvPr/>
        </p:nvSpPr>
        <p:spPr>
          <a:xfrm>
            <a:off x="1523880" y="2056680"/>
            <a:ext cx="2544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ream pollution. City dump. Dubuque, Iow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brary of Congres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ints and Photographs Division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8" name="Picture 10" descr="Image, Source: b&amp;w film copy neg."/>
          <p:cNvPicPr/>
          <p:nvPr/>
        </p:nvPicPr>
        <p:blipFill>
          <a:blip r:embed="rId4"/>
          <a:stretch/>
        </p:blipFill>
        <p:spPr>
          <a:xfrm>
            <a:off x="3276720" y="4038480"/>
            <a:ext cx="2514600" cy="2016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Garamond"/>
              </a:rPr>
              <a:t>Zoom-In Inquiry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 offers irresistible invitations 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to thinking</a:t>
            </a:r>
            <a:br>
              <a:rPr sz="4400"/>
            </a:b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941" name="Picture 4" descr=""/>
          <p:cNvPicPr/>
          <p:nvPr/>
        </p:nvPicPr>
        <p:blipFill>
          <a:blip r:embed="rId2"/>
          <a:srcRect l="2939" t="10001" r="4412" b="4285"/>
          <a:stretch/>
        </p:blipFill>
        <p:spPr>
          <a:xfrm>
            <a:off x="2895480" y="3211560"/>
            <a:ext cx="3429000" cy="32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121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You’re invited to be</a:t>
            </a:r>
            <a:br>
              <a:rPr sz="4400"/>
            </a:br>
            <a:r>
              <a:rPr b="1" lang="en-US" sz="5400" spc="-1" strike="noStrike">
                <a:solidFill>
                  <a:srgbClr val="e5e5ff"/>
                </a:solidFill>
                <a:latin typeface="Garamond"/>
              </a:rPr>
              <a:t>Curious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944" name="Picture 4" descr=""/>
          <p:cNvPicPr/>
          <p:nvPr/>
        </p:nvPicPr>
        <p:blipFill>
          <a:blip r:embed="rId2"/>
          <a:stretch/>
        </p:blipFill>
        <p:spPr>
          <a:xfrm>
            <a:off x="1905120" y="2743200"/>
            <a:ext cx="51814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60948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5e5ff"/>
                </a:solidFill>
                <a:latin typeface="Garamond"/>
              </a:rPr>
              <a:t>Curious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1523880" y="2057400"/>
            <a:ext cx="335304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ond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sk question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bserve closel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nd problem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re playfu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48" name="Picture 5" descr=""/>
          <p:cNvPicPr/>
          <p:nvPr/>
        </p:nvPicPr>
        <p:blipFill>
          <a:blip r:embed="rId2"/>
          <a:stretch/>
        </p:blipFill>
        <p:spPr>
          <a:xfrm>
            <a:off x="5257800" y="2286000"/>
            <a:ext cx="3578400" cy="43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9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9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9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9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9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9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9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9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9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9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9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9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9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9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9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9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9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9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9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You’re invited to be…</a:t>
            </a:r>
            <a:br>
              <a:rPr sz="4400"/>
            </a:br>
            <a:r>
              <a:rPr b="1" lang="en-US" sz="5400" spc="-1" strike="noStrike">
                <a:solidFill>
                  <a:srgbClr val="e5e5ff"/>
                </a:solidFill>
                <a:latin typeface="Garamond"/>
              </a:rPr>
              <a:t>Intellectually </a:t>
            </a:r>
            <a:br>
              <a:rPr sz="5400"/>
            </a:br>
            <a:r>
              <a:rPr b="1" lang="en-US" sz="5400" spc="-1" strike="noStrike">
                <a:solidFill>
                  <a:srgbClr val="e5e5ff"/>
                </a:solidFill>
                <a:latin typeface="Garamond"/>
              </a:rPr>
              <a:t>Careful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951" name="Picture 4" descr="http://www.loc.gov/exhibits/reflections/images/ref0024s.jpg"/>
          <p:cNvPicPr/>
          <p:nvPr/>
        </p:nvPicPr>
        <p:blipFill>
          <a:blip r:embed="rId2"/>
          <a:srcRect l="0" t="3280" r="0" b="4913"/>
          <a:stretch/>
        </p:blipFill>
        <p:spPr>
          <a:xfrm>
            <a:off x="304920" y="3200400"/>
            <a:ext cx="2305080" cy="320040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53352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5e5ff"/>
                </a:solidFill>
                <a:latin typeface="Garamond"/>
              </a:rPr>
              <a:t>Intellectually Careful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1295280" y="2362320"/>
            <a:ext cx="5105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aluate Evid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ert for error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heck for accurac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rroborate inform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Justify opinions with evid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55" name="Picture 5" descr=""/>
          <p:cNvPicPr/>
          <p:nvPr/>
        </p:nvPicPr>
        <p:blipFill>
          <a:blip r:embed="rId2"/>
          <a:srcRect l="33226" t="7218" r="14378" b="7610"/>
          <a:stretch/>
        </p:blipFill>
        <p:spPr>
          <a:xfrm>
            <a:off x="5791320" y="2286000"/>
            <a:ext cx="320184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9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9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9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9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9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9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9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9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9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9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9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9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9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9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9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9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9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9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9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9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9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9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9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38088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You’re invited to be…</a:t>
            </a:r>
            <a:br>
              <a:rPr sz="4400"/>
            </a:br>
            <a:r>
              <a:rPr b="1" lang="en-US" sz="5400" spc="-1" strike="noStrike">
                <a:solidFill>
                  <a:srgbClr val="e5e5ff"/>
                </a:solidFill>
                <a:latin typeface="Garamond"/>
              </a:rPr>
              <a:t>Reflective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958" name="Picture 4" descr=""/>
          <p:cNvPicPr/>
          <p:nvPr/>
        </p:nvPicPr>
        <p:blipFill>
          <a:blip r:embed="rId2"/>
          <a:srcRect l="1319" t="20005" r="2944" b="3751"/>
          <a:stretch/>
        </p:blipFill>
        <p:spPr>
          <a:xfrm>
            <a:off x="609480" y="3276720"/>
            <a:ext cx="2873520" cy="2971800"/>
          </a:xfrm>
          <a:prstGeom prst="rect">
            <a:avLst/>
          </a:prstGeom>
          <a:ln w="57240">
            <a:solidFill>
              <a:srgbClr val="000514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218960" y="1294920"/>
            <a:ext cx="3429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5e5ff"/>
                </a:solidFill>
                <a:latin typeface="Garamond"/>
              </a:rPr>
              <a:t>Reflective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961" name="Picture 5" descr=""/>
          <p:cNvPicPr/>
          <p:nvPr/>
        </p:nvPicPr>
        <p:blipFill>
          <a:blip r:embed="rId2"/>
          <a:srcRect l="4198" t="7844" r="7122" b="9407"/>
          <a:stretch/>
        </p:blipFill>
        <p:spPr>
          <a:xfrm>
            <a:off x="6172200" y="457200"/>
            <a:ext cx="2422440" cy="2819520"/>
          </a:xfrm>
          <a:prstGeom prst="rect">
            <a:avLst/>
          </a:prstGeom>
          <a:ln w="0">
            <a:noFill/>
          </a:ln>
        </p:spPr>
      </p:pic>
      <p:sp>
        <p:nvSpPr>
          <p:cNvPr id="962" name="TextBox 7"/>
          <p:cNvSpPr/>
          <p:nvPr/>
        </p:nvSpPr>
        <p:spPr>
          <a:xfrm>
            <a:off x="1523880" y="2666880"/>
            <a:ext cx="4953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are a  product to criter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valuate a proc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ek understand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ther other opin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ider relationship between parts and a who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Rectangle 2"/>
          <p:cNvSpPr/>
          <p:nvPr/>
        </p:nvSpPr>
        <p:spPr>
          <a:xfrm>
            <a:off x="3281040" y="2895480"/>
            <a:ext cx="322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at do you se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2" name="Picture 3" descr="tornado"/>
          <p:cNvPicPr/>
          <p:nvPr/>
        </p:nvPicPr>
        <p:blipFill>
          <a:blip r:embed="rId1"/>
          <a:srcRect l="0" t="70294" r="85329" b="0"/>
          <a:stretch/>
        </p:blipFill>
        <p:spPr>
          <a:xfrm>
            <a:off x="457200" y="4572000"/>
            <a:ext cx="121932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40384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5e5ff"/>
                </a:solidFill>
                <a:latin typeface="Garamond"/>
              </a:rPr>
              <a:t>Reflective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1600200" y="2209320"/>
            <a:ext cx="64008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are a  product to criteri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aluate a proces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ek understand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Gather other opinion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nsider relationship between parts and a who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9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9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9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9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9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9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9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9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9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9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9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9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9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9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9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9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9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9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9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9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9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3" name="Picture 2" descr="tornado"/>
          <p:cNvPicPr/>
          <p:nvPr/>
        </p:nvPicPr>
        <p:blipFill>
          <a:blip r:embed="rId1"/>
          <a:srcRect l="0" t="69183" r="66979" b="0"/>
          <a:stretch/>
        </p:blipFill>
        <p:spPr>
          <a:xfrm>
            <a:off x="380880" y="4419720"/>
            <a:ext cx="2743200" cy="2104920"/>
          </a:xfrm>
          <a:prstGeom prst="rect">
            <a:avLst/>
          </a:prstGeom>
          <a:ln w="0">
            <a:noFill/>
          </a:ln>
        </p:spPr>
      </p:pic>
      <p:sp>
        <p:nvSpPr>
          <p:cNvPr id="904" name="Rectangle 3"/>
          <p:cNvSpPr/>
          <p:nvPr/>
        </p:nvSpPr>
        <p:spPr>
          <a:xfrm>
            <a:off x="304920" y="457200"/>
            <a:ext cx="8839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scribe who you see in this imag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here do you think this image was take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5" name="Picture 2" descr="tornado"/>
          <p:cNvPicPr/>
          <p:nvPr/>
        </p:nvPicPr>
        <p:blipFill>
          <a:blip r:embed="rId1"/>
          <a:srcRect l="0" t="67937" r="0" b="0"/>
          <a:stretch/>
        </p:blipFill>
        <p:spPr>
          <a:xfrm>
            <a:off x="228600" y="4343400"/>
            <a:ext cx="8458200" cy="2230560"/>
          </a:xfrm>
          <a:prstGeom prst="rect">
            <a:avLst/>
          </a:prstGeom>
          <a:ln w="0">
            <a:noFill/>
          </a:ln>
        </p:spPr>
      </p:pic>
      <p:sp>
        <p:nvSpPr>
          <p:cNvPr id="906" name="Rectangle 3"/>
          <p:cNvSpPr/>
          <p:nvPr/>
        </p:nvSpPr>
        <p:spPr>
          <a:xfrm>
            <a:off x="533520" y="457200"/>
            <a:ext cx="83055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What new people or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hings do you see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When do you think this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mage was taken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7" name="Picture 2" descr="tornado"/>
          <p:cNvPicPr/>
          <p:nvPr/>
        </p:nvPicPr>
        <p:blipFill>
          <a:blip r:embed="rId1"/>
          <a:srcRect l="-2747" t="53814" r="0" b="0"/>
          <a:stretch/>
        </p:blipFill>
        <p:spPr>
          <a:xfrm>
            <a:off x="304920" y="3429000"/>
            <a:ext cx="8534160" cy="3154320"/>
          </a:xfrm>
          <a:prstGeom prst="rect">
            <a:avLst/>
          </a:prstGeom>
          <a:ln w="0">
            <a:noFill/>
          </a:ln>
        </p:spPr>
      </p:pic>
      <p:sp>
        <p:nvSpPr>
          <p:cNvPr id="908" name="Rectangle 3"/>
          <p:cNvSpPr/>
          <p:nvPr/>
        </p:nvSpPr>
        <p:spPr>
          <a:xfrm>
            <a:off x="533520" y="838080"/>
            <a:ext cx="8305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Make a hypothesis about what is happening in this pictur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9" name="Picture 2" descr="tornado"/>
          <p:cNvPicPr/>
          <p:nvPr/>
        </p:nvPicPr>
        <p:blipFill>
          <a:blip r:embed="rId1"/>
          <a:srcRect l="0" t="23823" r="0" b="0"/>
          <a:stretch/>
        </p:blipFill>
        <p:spPr>
          <a:xfrm>
            <a:off x="762120" y="380880"/>
            <a:ext cx="7391160" cy="4630680"/>
          </a:xfrm>
          <a:prstGeom prst="rect">
            <a:avLst/>
          </a:prstGeom>
          <a:ln w="0">
            <a:noFill/>
          </a:ln>
        </p:spPr>
      </p:pic>
      <p:sp>
        <p:nvSpPr>
          <p:cNvPr id="910" name="Rectangle 3"/>
          <p:cNvSpPr/>
          <p:nvPr/>
        </p:nvSpPr>
        <p:spPr>
          <a:xfrm>
            <a:off x="0" y="5181480"/>
            <a:ext cx="9144000" cy="137376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at new evidence do you have to suppor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r shift your hypothesis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y do you think this image was created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1" name="Picture 2" descr="tornado"/>
          <p:cNvPicPr/>
          <p:nvPr/>
        </p:nvPicPr>
        <p:blipFill>
          <a:blip r:embed="rId1"/>
          <a:srcRect l="0" t="12535" r="0" b="0"/>
          <a:stretch/>
        </p:blipFill>
        <p:spPr>
          <a:xfrm>
            <a:off x="838080" y="228600"/>
            <a:ext cx="7391520" cy="5316480"/>
          </a:xfrm>
          <a:prstGeom prst="rect">
            <a:avLst/>
          </a:prstGeom>
          <a:ln w="0">
            <a:noFill/>
          </a:ln>
        </p:spPr>
      </p:pic>
      <p:sp>
        <p:nvSpPr>
          <p:cNvPr id="912" name="Rectangle 3"/>
          <p:cNvSpPr/>
          <p:nvPr/>
        </p:nvSpPr>
        <p:spPr>
          <a:xfrm>
            <a:off x="419040" y="5715000"/>
            <a:ext cx="8420040" cy="9169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Spectators standing on a dirt road, looking at a house damaged by a tornado. Illinois  1928. Photographs from the Chicago Daily News, 1902-1933 American Memory, Library of Congre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293"/>
                </a:solidFill>
                <a:latin typeface="Arial"/>
              </a:rPr>
              <a:t>Thinking about your Thinking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0384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ow did your perception of the image change as you saw more of the imag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y did your hypothesis chang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at questions did the image leave you with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5" name="Picture 4" descr="tornado"/>
          <p:cNvPicPr/>
          <p:nvPr/>
        </p:nvPicPr>
        <p:blipFill>
          <a:blip r:embed="rId1"/>
          <a:stretch/>
        </p:blipFill>
        <p:spPr>
          <a:xfrm>
            <a:off x="380880" y="1523880"/>
            <a:ext cx="3429000" cy="2819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fd293"/>
                </a:solidFill>
                <a:latin typeface="Arial"/>
              </a:rPr>
              <a:t>Understanding the “big picture”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pic>
        <p:nvPicPr>
          <p:cNvPr id="917" name="Picture 3" descr="tornado"/>
          <p:cNvPicPr/>
          <p:nvPr/>
        </p:nvPicPr>
        <p:blipFill>
          <a:blip r:embed="rId1"/>
          <a:srcRect l="0" t="9650" r="0" b="0"/>
          <a:stretch/>
        </p:blipFill>
        <p:spPr>
          <a:xfrm>
            <a:off x="2209680" y="1066680"/>
            <a:ext cx="4800600" cy="3567240"/>
          </a:xfrm>
          <a:prstGeom prst="rect">
            <a:avLst/>
          </a:prstGeom>
          <a:ln w="0">
            <a:noFill/>
          </a:ln>
        </p:spPr>
      </p:pic>
      <p:sp>
        <p:nvSpPr>
          <p:cNvPr id="918" name="Rectangle 4"/>
          <p:cNvSpPr/>
          <p:nvPr/>
        </p:nvSpPr>
        <p:spPr>
          <a:xfrm>
            <a:off x="380880" y="4572000"/>
            <a:ext cx="83822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293"/>
                </a:solidFill>
                <a:latin typeface="Arial"/>
              </a:rPr>
              <a:t>How might we describe the relationship between humans and nature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1T14:02:42Z</dcterms:created>
  <dc:creator>rhonda</dc:creator>
  <dc:description/>
  <dc:language>en-US</dc:language>
  <cp:lastModifiedBy>Rhonda</cp:lastModifiedBy>
  <dcterms:modified xsi:type="dcterms:W3CDTF">2013-01-23T09:54:11Z</dcterms:modified>
  <cp:revision>342</cp:revision>
  <dc:subject/>
  <dc:title>Slide 1</dc:title>
</cp:coreProperties>
</file>